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wmf" ContentType="image/x-wmf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1D79-6A03-47E3-9134-ED52327540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72202-717A-4CDB-9D19-D80860C2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5A05-814B-4359-BC6F-7E6AEE53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4CD7-96C6-40B5-8D9F-F10AB3B3FF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9A30-C8D7-4635-AB51-811B0C7E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CCC4-29B3-409C-B1EA-CCC595F7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3E2D-9A68-45DF-80C6-69ACAD8A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F7A9C-074D-4B82-8713-986B1B99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A3AC-9607-4F56-AF43-D94191E4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F66F-0118-4FD6-AAE6-8628FFC5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095F-EFD1-4271-AC72-60F525BF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C13E-10F8-4664-9A1C-7924B7E2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04E0-57FC-4E27-AA44-0EC28213F7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6264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00" y="1266840"/>
            <a:ext cx="86598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的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85680" y="2421000"/>
            <a:ext cx="213228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Box 1"/>
          <p:cNvSpPr/>
          <p:nvPr/>
        </p:nvSpPr>
        <p:spPr>
          <a:xfrm>
            <a:off x="205092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578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上肢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492360" y="2421000"/>
            <a:ext cx="2374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片 7" descr=""/>
          <p:cNvPicPr/>
          <p:nvPr/>
        </p:nvPicPr>
        <p:blipFill>
          <a:blip r:embed="rId2"/>
          <a:stretch/>
        </p:blipFill>
        <p:spPr>
          <a:xfrm>
            <a:off x="3460680" y="2421000"/>
            <a:ext cx="2624040" cy="327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mage06‘"/>
          <p:cNvPicPr/>
          <p:nvPr/>
        </p:nvPicPr>
        <p:blipFill>
          <a:blip r:embed="rId3">
            <a:grayscl/>
            <a:lum contrast="18000"/>
          </a:blip>
          <a:stretch/>
        </p:blipFill>
        <p:spPr>
          <a:xfrm>
            <a:off x="6227640" y="2332080"/>
            <a:ext cx="2665440" cy="3257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500280" y="5805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手背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588000" y="58118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足部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外周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年龄、病情、意识状态、心肺功能、肢体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动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状态及合作程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局部  穿刺部位的皮肤、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家属解释输液的目的、方法、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77336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输液前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60" y="119700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4500720" y="1484280"/>
            <a:ext cx="38163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后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、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类处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773360"/>
            <a:ext cx="8785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“三查七对”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药物配伍禁忌，药物应现配现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前排尽输液管内的空气，输完后及时拔针，及时更换输液瓶及添加药液，预防空气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560" y="177336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保护血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较粗直、弹性好的血管，避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关节和静脉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可自输液的肢体抽取血液化验标本。偏瘫患者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经患肢输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留置针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血液循环状况及自理能力，当前诊断及治疗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心理状态及配合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、血管状况及肢体活动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44640"/>
            <a:ext cx="7632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4" descr="img029"/>
          <p:cNvPicPr/>
          <p:nvPr/>
        </p:nvPicPr>
        <p:blipFill>
          <a:blip r:embed="rId1"/>
          <a:stretch/>
        </p:blipFill>
        <p:spPr>
          <a:xfrm>
            <a:off x="4356000" y="1393920"/>
            <a:ext cx="3240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19700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连接留置针与输液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995640" y="1125360"/>
            <a:ext cx="44989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、备胶布及透明敷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后整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封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输液的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img023"/>
          <p:cNvPicPr/>
          <p:nvPr/>
        </p:nvPicPr>
        <p:blipFill>
          <a:blip r:embed="rId1"/>
          <a:stretch/>
        </p:blipFill>
        <p:spPr>
          <a:xfrm>
            <a:off x="25560" y="189000"/>
            <a:ext cx="3106440" cy="282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3" descr="img024"/>
          <p:cNvPicPr/>
          <p:nvPr/>
        </p:nvPicPr>
        <p:blipFill>
          <a:blip r:embed="rId2"/>
          <a:stretch/>
        </p:blipFill>
        <p:spPr>
          <a:xfrm>
            <a:off x="3132000" y="189000"/>
            <a:ext cx="28162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img025"/>
          <p:cNvPicPr/>
          <p:nvPr/>
        </p:nvPicPr>
        <p:blipFill>
          <a:blip r:embed="rId3"/>
          <a:stretch/>
        </p:blipFill>
        <p:spPr>
          <a:xfrm>
            <a:off x="5948280" y="189000"/>
            <a:ext cx="319572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g026"/>
          <p:cNvPicPr/>
          <p:nvPr/>
        </p:nvPicPr>
        <p:blipFill>
          <a:blip r:embed="rId4"/>
          <a:stretch/>
        </p:blipFill>
        <p:spPr>
          <a:xfrm>
            <a:off x="1042920" y="3141720"/>
            <a:ext cx="331308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027"/>
          <p:cNvPicPr/>
          <p:nvPr/>
        </p:nvPicPr>
        <p:blipFill>
          <a:blip r:embed="rId5"/>
          <a:stretch/>
        </p:blipFill>
        <p:spPr>
          <a:xfrm>
            <a:off x="5003640" y="314172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240" y="356760"/>
            <a:ext cx="25005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列举静脉输液治疗常见的故障、处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说出静脉输血三查八对的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阐述输液速度的调整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概括静脉输血前的准备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评估溶血反应的表现，制订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内容占位符 2"/>
          <p:cNvSpPr/>
          <p:nvPr/>
        </p:nvSpPr>
        <p:spPr>
          <a:xfrm>
            <a:off x="179280" y="148428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封管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菌生理盐水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-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-8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复冲管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稀释肝素溶液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毫升生理盐水含肝素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-100u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-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输液钢针输液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留置针使用说明严格掌握留置时间，一般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或腋下淋巴结清扫术的患者应选健侧肢体进行穿刺，有血栓史或血管手术史的静脉不宜进行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范围直径不小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cm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中心静脉穿刺置管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经外周穿刺置入中心静脉导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(peripherally inserted central catheter,PICC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是一种从周围静脉（贵要静脉、肘正中静脉、头静脉、肱静脉、颈外静脉和下肢大隐静脉等）穿刺置管，尖端位于上腔静脉或下腔静脉的导管置入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9280" y="1515960"/>
            <a:ext cx="885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优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时间长，可留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，减少反复穿刺的痛苦，同时保护外周静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颈部和胸部穿刺引起的严重并发症，如血气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感染的发生率较中心静脉置管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CV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9280" y="1515600"/>
            <a:ext cx="885672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64000" y="3621240"/>
            <a:ext cx="2736720" cy="2786040"/>
          </a:xfrm>
          <a:prstGeom prst="rect">
            <a:avLst/>
          </a:prstGeom>
          <a:ln w="0">
            <a:noFill/>
          </a:ln>
        </p:spPr>
      </p:pic>
      <p:sp>
        <p:nvSpPr>
          <p:cNvPr id="184" name="内容占位符 2"/>
          <p:cNvSpPr/>
          <p:nvPr/>
        </p:nvSpPr>
        <p:spPr>
          <a:xfrm>
            <a:off x="155520" y="1292400"/>
            <a:ext cx="885672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应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歇性、持续性或需每日静脉输液治疗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高渗性和对血管有刺激性药物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3640" y="105264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并选择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知情同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摆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确定穿刺点并测量导管预置长度及臂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无菌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4206960" y="1557360"/>
            <a:ext cx="489744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冲导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系止血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回血确认导管在静脉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撤出插管鞘及支撑导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修剪导管长度及安装连接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2560" y="162828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冲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确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导管的维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Picture 2" descr="PIcc置管"/>
          <p:cNvPicPr/>
          <p:nvPr/>
        </p:nvPicPr>
        <p:blipFill>
          <a:blip r:embed="rId1"/>
          <a:stretch/>
        </p:blipFill>
        <p:spPr>
          <a:xfrm>
            <a:off x="3492360" y="1700280"/>
            <a:ext cx="5386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1484280"/>
            <a:ext cx="828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时速度不宜过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测量置入长度，不可插入过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进针角度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直刺入血管，不可在皮下滑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局部皮肤情况。及时测量臂围与置管前比较，观察肿胀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413000"/>
            <a:ext cx="842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局部加压止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怀疑导管移位时，应先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检查确定尖端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导患者置管侧手臂勿提重物，并避免物品或躯体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压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结束后，用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，以脉冲正压式冲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封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下列情况不宜置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和腋下淋巴结清扫术的术侧肢体、锁骨下淋巴结肿大或有肿块侧、安装起搏器侧不宜进行同侧置管，患有上腔静脉压迫综合征的患者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有血栓史、血管手术史的静脉不应进行置管，放疗部位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一节  静脉输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静脉输液速度的调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371240"/>
            <a:ext cx="86598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间（小时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0" name="对象 1"/>
          <p:cNvGraphicFramePr/>
          <p:nvPr/>
        </p:nvGraphicFramePr>
        <p:xfrm>
          <a:off x="3924360" y="2924280"/>
          <a:ext cx="3962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24280"/>
                    <a:ext cx="396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64388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液时常见故障及排除方法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溶液点滴不畅或不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滑出血管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斜面紧贴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压力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静脉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126792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壶内液面自行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4" descr="液面过高1"/>
          <p:cNvPicPr/>
          <p:nvPr/>
        </p:nvPicPr>
        <p:blipFill>
          <a:blip r:embed="rId1"/>
          <a:stretch/>
        </p:blipFill>
        <p:spPr>
          <a:xfrm>
            <a:off x="2340000" y="198900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液面过高2"/>
          <p:cNvPicPr/>
          <p:nvPr/>
        </p:nvPicPr>
        <p:blipFill>
          <a:blip r:embed="rId2"/>
          <a:stretch/>
        </p:blipFill>
        <p:spPr>
          <a:xfrm>
            <a:off x="4859280" y="1955880"/>
            <a:ext cx="2281320" cy="176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液面过低1"/>
          <p:cNvPicPr/>
          <p:nvPr/>
        </p:nvPicPr>
        <p:blipFill>
          <a:blip r:embed="rId3"/>
          <a:stretch/>
        </p:blipFill>
        <p:spPr>
          <a:xfrm>
            <a:off x="4932360" y="4005360"/>
            <a:ext cx="1871640" cy="1609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液面过低2"/>
          <p:cNvPicPr/>
          <p:nvPr/>
        </p:nvPicPr>
        <p:blipFill>
          <a:blip r:embed="rId4"/>
          <a:stretch/>
        </p:blipFill>
        <p:spPr>
          <a:xfrm>
            <a:off x="6869160" y="4005360"/>
            <a:ext cx="20239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液反应与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输入致热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器具消毒灭菌不完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左大括号 1"/>
          <p:cNvSpPr/>
          <p:nvPr/>
        </p:nvSpPr>
        <p:spPr>
          <a:xfrm>
            <a:off x="1403280" y="3141720"/>
            <a:ext cx="144360" cy="15825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82560"/>
              <a:gd name="textAreaBottom" fmla="*/ 157896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患者在输液过程中突然出现发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发热常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左右，于停止输液后数小时内体温可恢复正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初起有寒战，继而高热达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并伴有恶心、呕吐、头痛、周身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必须严格灭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严格执行无菌操作，防止输液器具、药液及穿刺部位被污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检查输液用液体及输液管的质量及有效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的保管应注意避免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，减慢或停止输液，观察体温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液，按高热护理方法对患者进行处理，物理降温，严密观察生命体征，遵医嘱给予抗过敏药物或激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剩余溶液和输液器，必要时细菌培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刺激性较强的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内放置刺激性较强的塑料管时间过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沿静脉走向出现条索状红线，局部组织红、肿、热、痛，有时伴有全身发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静脉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静脉输液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Intravenous  infusion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利用液体重量所产生的液体静压和大气压的作用，将大量的灭菌溶液、电解质或药物等由静脉输入体内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7" descr="x5"/>
          <p:cNvPicPr/>
          <p:nvPr/>
        </p:nvPicPr>
        <p:blipFill>
          <a:blip r:embed="rId1"/>
          <a:stretch/>
        </p:blipFill>
        <p:spPr>
          <a:xfrm>
            <a:off x="3286080" y="4214880"/>
            <a:ext cx="3017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内容占位符 2"/>
          <p:cNvSpPr/>
          <p:nvPr/>
        </p:nvSpPr>
        <p:spPr>
          <a:xfrm>
            <a:off x="250920" y="1484280"/>
            <a:ext cx="8785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技术操作，避免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刺激性强的药物要充分稀释，并防止药液溢出血管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护静脉，需长期输液者应有计划地更换注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置管者做好留置导管的护理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抬高患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硫酸镁湿热敷或中药外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还可用超短波理疗。合并感染，应根据医嘱给予抗生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速度过快，或患者原有心肺功能不良者，在短时间内输入液体过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急性左心衰的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感胸闷、呼吸急促、咳嗽、咯粉红色泡沫痰，面色苍白、出冷汗，心前区疼痛或有压迫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可自口鼻涌出大量的泡沫样血性液体；肺部布满湿罗音；脉搏快且弱；还可有尿量减少、水肿、腹水、颈静脉怒张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要控制输液速度不宜过快，对老年人、小儿及心肺功能不良者尤应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立即停止输液，并通知医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的患者可取端坐位，两腿下垂，以减少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静脉回流，减轻心脏负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按医嘱给予血管扩张药，扩张周围血管；给予利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，有助于缓解肺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560" y="1413000"/>
            <a:ext cx="865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高流量吸氧，湿化瓶内注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，减轻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医嘱给予氨茶碱和西地兰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必要时可进行四肢轮扎，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轮流放松一个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体的止血带。另外还可采用静脉放血的方法，每次放血量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以缓解循环负荷过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9280" y="137124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导管内空气未排净、导管连接不紧、有缝隙；或在加压输液、输血时无人看守导致液体走空等；更换药液不及时，更换药液后未检查输液管内是否进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必须排净空气，及时更换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更换药液都要认真检查输液管内是否有空气，滴壶液面是否过低，发现异常及时予以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需加压输液、输血，护士应严密监测，不得随意离开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静脉输液的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水和电解质，以维持或调节酸碱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脱水剂，提高血浆的渗透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立即取左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最好取头低足高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予高流量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9" name="图片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二节  静脉输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血液及血液制品的种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773360"/>
            <a:ext cx="8659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全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新鲜血和库存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成分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红细胞、白细胞、血小板、血浆和血浆蛋白、凝血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" name="Picture 3" descr="01quqnxue"/>
          <p:cNvPicPr/>
          <p:nvPr/>
        </p:nvPicPr>
        <p:blipFill>
          <a:blip r:embed="rId1"/>
          <a:stretch/>
        </p:blipFill>
        <p:spPr>
          <a:xfrm>
            <a:off x="4716360" y="4005360"/>
            <a:ext cx="3386160" cy="251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静脉输血的目的和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1916280"/>
            <a:ext cx="3780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抗体、补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浆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859280" y="2776680"/>
            <a:ext cx="40719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骨髓系统和网状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内皮系统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改善组织缺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1700280"/>
            <a:ext cx="8424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型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如果患者需要再次输血，须重做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静脉输血的适应证和禁忌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1916280"/>
            <a:ext cx="5472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原因引起的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失血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及时输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或低蛋白血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血功能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5" name="Picture 12" descr="10189110"/>
          <p:cNvPicPr/>
          <p:nvPr/>
        </p:nvPicPr>
        <p:blipFill>
          <a:blip r:embed="rId1"/>
          <a:stretch/>
        </p:blipFill>
        <p:spPr>
          <a:xfrm>
            <a:off x="6024600" y="1989000"/>
            <a:ext cx="2940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2050560"/>
            <a:ext cx="74883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肺水肿、肺栓塞、充血性心力衰竭、肾极度衰竭、恶性高血压、真性红细胞增多症及对输血有变态反应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血型和相容性检查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916280"/>
            <a:ext cx="82803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（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blood types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红细胞膜上特异性抗原的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ABO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：是以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D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抗原存在与否来表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或阴性。汉族中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的人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，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阴性者不足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1916280"/>
            <a:ext cx="8640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交叉相容配血试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该试验的目的在于检查受血者与献血者之间有无不相容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直接交叉相容配血试验（主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间接交叉相容配血试验（次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3" name="图片 1" descr=""/>
          <p:cNvPicPr/>
          <p:nvPr/>
        </p:nvPicPr>
        <p:blipFill>
          <a:blip r:embed="rId1"/>
          <a:stretch/>
        </p:blipFill>
        <p:spPr>
          <a:xfrm>
            <a:off x="6059520" y="3645000"/>
            <a:ext cx="3049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血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341000"/>
            <a:ext cx="8424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1" descr="200604082338302549"/>
          <p:cNvPicPr/>
          <p:nvPr/>
        </p:nvPicPr>
        <p:blipFill>
          <a:blip r:embed="rId1"/>
          <a:srcRect l="7960" t="7259" r="8266" b="10458"/>
          <a:stretch/>
        </p:blipFill>
        <p:spPr>
          <a:xfrm>
            <a:off x="2843280" y="2347920"/>
            <a:ext cx="4032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557000"/>
            <a:ext cx="8424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常用溶液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其他：静脉高营养液、浓缩白蛋白注射液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应先取得患者的理解并征得患者的同意，签署知情同意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备血  抽取血标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与已填写的输血申请单一起送往血库，做血型鉴定和交叉配血试验。采血时不要同时采集两个人的血标本，以免发生混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内容占位符 2"/>
          <p:cNvSpPr/>
          <p:nvPr/>
        </p:nvSpPr>
        <p:spPr>
          <a:xfrm>
            <a:off x="250920" y="1341360"/>
            <a:ext cx="88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做好“三查” “八对”：“三查”即查血的有效期、血的质量和输血装置是否完好；“八对”即对床号、姓名、住院号、血袋号、血型、交叉配血试验结果、血液种类和剂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检查血液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无误，在交叉配血单上签名方可提取血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自血库取回后，切勿振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回的血液在室温下放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后再输入，不能将血液加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需与另一护士再次进行核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3" descr="54"/>
          <p:cNvPicPr/>
          <p:nvPr/>
        </p:nvPicPr>
        <p:blipFill>
          <a:blip r:embed="rId1"/>
          <a:stretch/>
        </p:blipFill>
        <p:spPr>
          <a:xfrm>
            <a:off x="6372360" y="4292640"/>
            <a:ext cx="266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内容占位符 2"/>
          <p:cNvSpPr/>
          <p:nvPr/>
        </p:nvSpPr>
        <p:spPr>
          <a:xfrm>
            <a:off x="179280" y="1341360"/>
            <a:ext cx="8856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输血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将已抽出的血液在血袋中保存，然后采用静脉输液法输入患者体内的方法，在临床中广泛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指供血者血液抽出后立即输给患者的一种方法。适用于急需输血而又无血库设备时或婴幼儿少量输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0560" y="15044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血型及交叉配血结果、输血史及过敏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治疗情况、心理状态、对输血的理解与合作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及血管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其家属解释输血的目的和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50560" y="1484280"/>
            <a:ext cx="871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生理盐水、无菌手套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密闭式输液，将输液器换为输血器、血液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注射，另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数具（根据输血量多少而定）、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枸橼酸钠溶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68000" y="1628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密闭式静脉输液，先输入少量生理盐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两人再次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轻旋转摇匀血液，戴手套，打开储血袋封口，常规消毒开口处塑料管，将输血器针头从生理盐水瓶上拔下，插入血袋的接口处，缓慢倒置血袋，挂于输液架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速度 开始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如无不良反应再根据情况调节滴速，成人一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，老人、小儿酌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核对，签名，对患者及家属交待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，再输入生理盐水直到将输血器内的血液全部输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后整理、分类处理用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，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21840" y="1299960"/>
            <a:ext cx="84978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、解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准备患者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抗凝剂 每只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抽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 枸橼酸钠溶液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压 将血压计袖带缠于供血者上臂并充气，压力维持在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mmH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3kPa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遵照“先盐后糖、先晶后胶、先快后慢、宁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勿多”的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钾时应注意“四不宜”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浓（浓度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％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快（成人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40gtt/min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多（成人每日总量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5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，小儿每日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／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k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早（见尿后补钾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血、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作：一人采血，一人传递，另一人行静脉注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 根据需要继续输液或拔针，拔针时按压时间要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整理用物，分类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后做好输血记录并签全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和查对制度，避免事故差错和输血反应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取出后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内给患者输入，避免久置使血液变质或被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后均应输入少量生理盐水，血液内不得随意加入其他药品，并避免和其它溶液相混，以防血液在酸、碱、高、低渗的环境中发生凝集和溶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开始时速度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后如无反应，可调至合适的滴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按医嘱酌情给抗过敏药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大量输库存血时应注意补充钙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完血的血袋应低温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备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抽血不可过急过快，并注意观察患者面色、血压等变化，询问有无不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血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致热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细菌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多次受血后，血浆中产生抗白细胞抗体和抗血小板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先有寒战，随后体温迅速上升至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伴有头痛、恶心、呕吐、出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管理血库保养液和输血用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反应轻者，减慢滴速即可使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血，严密观察生命体征，给予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2240" y="1413000"/>
            <a:ext cx="9131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是过敏体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在献血前用过可致敏的药物或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多次输血的患者体内可产生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体内的变态反应性抗体随血液传递给受血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628280"/>
            <a:ext cx="898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轻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出现皮肤瘙痒、荨麻疹、轻度血管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重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可发生平滑肌痉挛，表现为过敏性哮喘、喉头痉挛、支气管哮喘、喉头水肿，甚至可发生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内容占位符 2"/>
          <p:cNvSpPr/>
          <p:nvPr/>
        </p:nvSpPr>
        <p:spPr>
          <a:xfrm>
            <a:off x="468360" y="1484280"/>
            <a:ext cx="8136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勿选用有过敏史的献血员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献血员在采血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内不吃高蛋白质和高脂肪食物，宜用少量清淡饮食或糖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7680" y="1897200"/>
            <a:ext cx="86108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左大括号 1"/>
          <p:cNvSpPr/>
          <p:nvPr/>
        </p:nvSpPr>
        <p:spPr>
          <a:xfrm>
            <a:off x="2124000" y="2498760"/>
            <a:ext cx="144360" cy="2055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055600"/>
              <a:gd name="textAreaBottom" fmla="*/ 2052000 h 20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8360" y="3173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268360" y="238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340000" y="427356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左大括号 10"/>
          <p:cNvSpPr/>
          <p:nvPr/>
        </p:nvSpPr>
        <p:spPr>
          <a:xfrm>
            <a:off x="4643280" y="1989000"/>
            <a:ext cx="87480" cy="1295640"/>
          </a:xfrm>
          <a:custGeom>
            <a:avLst/>
            <a:gdLst>
              <a:gd name="textAreaLeft" fmla="*/ 55800 w 87480"/>
              <a:gd name="textAreaRight" fmla="*/ 87480 w 87480"/>
              <a:gd name="textAreaTop" fmla="*/ 2160 h 1295640"/>
              <a:gd name="textAreaBottom" fmla="*/ 12934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16360" y="18972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16360" y="28526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留置针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左大括号 15"/>
          <p:cNvSpPr/>
          <p:nvPr/>
        </p:nvSpPr>
        <p:spPr>
          <a:xfrm>
            <a:off x="4643280" y="3814920"/>
            <a:ext cx="150840" cy="2396880"/>
          </a:xfrm>
          <a:custGeom>
            <a:avLst/>
            <a:gdLst>
              <a:gd name="textAreaLeft" fmla="*/ 96480 w 150840"/>
              <a:gd name="textAreaRight" fmla="*/ 151200 w 150840"/>
              <a:gd name="textAreaTop" fmla="*/ 3600 h 2396880"/>
              <a:gd name="textAreaBottom" fmla="*/ 2393280 h 23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4869000" y="3554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IC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4859280" y="4292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外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4859280" y="50655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4859280" y="5786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640" y="15159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度的局部皮肤表现，不须特殊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，立即停止输血，给予抗过敏药物和肾上腺皮质激素等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及意识、尿量等，作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溶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异型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变质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中加入高渗或低渗溶液或能影响血液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化的药物，致使红细胞大量破坏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24000" y="148428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红细胞凝集成团，阻塞部分小血管，可出现头部胀痛，四肢麻木、腰背剧痛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集的红细胞溶解，大量血红蛋白进入血浆中，以致出现黄疸，血红蛋白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出现少尿、无尿等急性肾衰竭症状，严重者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作好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仔细查对，杜绝差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血液保存规则，不可使用变质血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23640" y="13413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停止输血并通知医生，保留余血，重新做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升压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注碳酸氢钠以碱化尿液，防止血红蛋白结晶阻塞肾小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双侧腰部封闭，并用热水袋敷双侧肾区，解除肾血管痉挛，保护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和尿量，并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与大量输血有关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见的反应有循环负荷过重、出血倾向、枸橼酸钠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五）传播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560" y="1371240"/>
            <a:ext cx="865980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考 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有何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输液反应的处理方法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7" descr="BS00554_"/>
          <p:cNvPicPr/>
          <p:nvPr/>
        </p:nvPicPr>
        <p:blipFill>
          <a:blip r:embed="rId1"/>
          <a:stretch/>
        </p:blipFill>
        <p:spPr>
          <a:xfrm flipH="1">
            <a:off x="6172200" y="3860640"/>
            <a:ext cx="2286000" cy="2540160"/>
          </a:xfrm>
          <a:prstGeom prst="rect">
            <a:avLst/>
          </a:prstGeom>
          <a:ln w="0">
            <a:noFill/>
          </a:ln>
        </p:spPr>
      </p:pic>
      <p:sp>
        <p:nvSpPr>
          <p:cNvPr id="337" name="矩形 5"/>
          <p:cNvSpPr/>
          <p:nvPr/>
        </p:nvSpPr>
        <p:spPr>
          <a:xfrm>
            <a:off x="6541200" y="214200"/>
            <a:ext cx="204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思 考 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周围静脉输液的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闭式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利用原装密封瓶或塑料袋，直接插入一次性输液管进行静脉输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36:43Z</dcterms:modified>
  <cp:revision>148</cp:revision>
  <dc:subject/>
  <dc:title>内科护理学</dc:title>
</cp:coreProperties>
</file>